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3A3-6842-4C35-9B31-A8FBAC61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6FF-DC92-4066-A03B-176413EA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418-1707-47E6-910E-32AC5BD1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F7B-8037-4249-BCB2-A0E1ECF0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3A54-9CE7-4AD0-B7FB-1CE69E31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0B7A-279A-485A-9BC9-DA25DBED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9E24-F84A-47EF-B308-C75567AD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3867-B98E-4E2F-A4A8-20AF71C1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D0DB-72EA-47A4-A7A5-51F81C29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D245-CF5A-4EB2-AD17-5EAB24F1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D934-F6D3-4F0E-8425-E1B784A6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F85-BCD6-4EB1-96AD-60C6175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7876-B693-4C0D-8003-C26B21B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9359-F80C-461C-A9D3-6088809E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F92B-B710-4D98-80CE-8DF69922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D36F-9A85-45D3-B505-8A7FC69D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1A6A-979E-45CB-B0C9-F73A972C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2EA-B2A5-4076-8A7D-415AEB20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197-3944-4516-AD30-A2C6DDF6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C24-57A1-46A6-9CB1-67947864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BD8-5B11-467B-92BB-F7914861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46F-E73E-4B3C-8A96-12B44C6C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187-370B-4698-B349-1E4AA4F4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17E-0E7C-4DC8-9BE9-5CE24571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C38-3D58-4D02-941C-F4EB6EBEC7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D24F-C124-41F5-84A0-0BD3613D04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plib.ru/literature/proverbs/htm" TargetMode="External"/><Relationship Id="rId2" Type="http://schemas.openxmlformats.org/officeDocument/2006/relationships/hyperlink" Target="http://www.wisdoms.ru/poslovizi_i_pogovorki" TargetMode="External"/><Relationship Id="rId3" Type="http://schemas.openxmlformats.org/officeDocument/2006/relationships/hyperlink" Target="http://www.foxdesign.ru/aphorism/topik/t_proverb.html" TargetMode="External"/><Relationship Id="rId4" Type="http://schemas.openxmlformats.org/officeDocument/2006/relationships/hyperlink" Target="http://www.russianplanet.ru/filblog/ruslit/poslovitsy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03280" y="2852640"/>
            <a:ext cx="6608880" cy="196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Русские послов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и поговор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31640" y="5877000"/>
            <a:ext cx="62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втор: Семёнова О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116000" y="907920"/>
            <a:ext cx="71848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новной вопрос нашего проек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952720" cy="561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1916280"/>
            <a:ext cx="7488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227664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500280"/>
            <a:ext cx="59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В чем заключается  переносный смысл пословиц и поговорок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50920" y="549360"/>
            <a:ext cx="5276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блемные вопросы: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716112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ределение пословицы и погово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м они отличаю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ва история их соз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 надо понимать их переносный  смыс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ва их темат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916280"/>
            <a:ext cx="8496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ормирование моральных ценностей у уче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огащение словарного запа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ширение кругозора учен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обретение навыков самостоятельной работы и самостоятельного поиска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42920" y="620640"/>
            <a:ext cx="734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идактические цели проекта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162864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учение поиску необходимой информации по определенной проблеме, ключевым слов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учение работе в 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ower-Poi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оформления результа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19280" y="549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Методические задач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42920" y="476280"/>
            <a:ext cx="70423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дставление результатов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следований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670120" y="2197080"/>
            <a:ext cx="4973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ефера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букле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еб-сай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чинение, эс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езент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тенгаз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332000" y="62064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должительност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екта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2852640"/>
            <a:ext cx="79200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роект рассчитан на 4 час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1542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1773360"/>
            <a:ext cx="822960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4 академических час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Ознакомление учащихся с проектом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оиск информаци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Самостоятельная работа учащихс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росмотр результа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76360" y="47628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Этапы проведения проек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Garamond"/>
                <a:hlinkClick r:id="rId1"/>
              </a:rPr>
              <a:t>www.fplib.ru/literature/proverbs/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Garamond"/>
                <a:hlinkClick r:id="rId2"/>
              </a:rPr>
              <a:t>www.wisdoms.ru/poslovizi_i_pogovor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Garamond"/>
                <a:hlinkClick r:id="rId3"/>
              </a:rPr>
              <a:t>www.foxdesign.ru/aphorism/topik/t_proverb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Garamond"/>
                <a:hlinkClick r:id="rId4"/>
              </a:rPr>
              <a:t>www.russianplanet.ru/filblog/ruslit/poslovitsy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oslovicy.globala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76360" y="47628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Информационные ресурс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52:10Z</dcterms:created>
  <dc:creator>Ирина</dc:creator>
  <dc:description/>
  <dc:language>en-US</dc:language>
  <cp:lastModifiedBy>User_07</cp:lastModifiedBy>
  <dcterms:modified xsi:type="dcterms:W3CDTF">2009-11-27T07:12:10Z</dcterms:modified>
  <cp:revision>17</cp:revision>
  <dc:subject/>
  <dc:title>Слайд 1</dc:title>
</cp:coreProperties>
</file>